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ECBC-6BBE-4CFE-BB2D-D8AC7937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F6B-FA58-4BAC-B0DC-A1DA6D80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8E18-F12C-4A76-A05B-D7570164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9490-26BE-4D88-AF38-01C96C74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167A-F03A-464A-9914-2828DC4B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CC6-301C-4529-91ED-161968C7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BF9-CC50-4780-BC2F-64473609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D5B-27F1-4F5A-A672-9D0A7903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8E8-E6CA-4AEE-A6EF-620DB4A9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E77-A886-45DA-A878-4D26196D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99E6-EAE8-4C3F-BCC3-E0489987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E4C1-E021-4033-8EEA-CCF26FB2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AB17-8015-42DF-9EB3-CF1B82CCCCEE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192C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32bits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pa_supplicant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92C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8192C USB Linux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up Network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3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Survey &amp; connect to AP without secur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8192C USB Linux driver quick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xecute shell script “install.s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./install.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8192C USB Linux driver step by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192cu_linux_v3.0.xxxx.2011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2000" spc="-1" strike="noStrike">
                <a:solidFill>
                  <a:srgbClr val="333399"/>
                </a:solidFill>
                <a:latin typeface="Arial"/>
              </a:rPr>
              <a:t>tar zxvf</a:t>
            </a:r>
            <a:r>
              <a:rPr b="0" i="1" lang="zh-TW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333399"/>
                </a:solidFill>
                <a:latin typeface="Arial"/>
              </a:rPr>
              <a:t>rtl8192_8188CU_linux_v3.0.2052.20110701 .tar.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2) step2: make 8192C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driver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./c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4) step4: insert 8192C USB mod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insmod 8192cu.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tting up Network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1) step1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wlan0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3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te Survey &amp; connect to AP without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georgia</cp:lastModifiedBy>
  <dcterms:modified xsi:type="dcterms:W3CDTF">2011-07-05T02:38:30Z</dcterms:modified>
  <cp:revision>133</cp:revision>
  <dc:subject/>
  <dc:title>投影片 1</dc:title>
</cp:coreProperties>
</file>